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2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3E89-F9B6-4511-AA92-37047518E7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AF2D-E0FF-4EC5-99F2-9263E873B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24A4-C881-4D7C-A639-5F1805F67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98BE-6B22-4F4D-AFE5-A207C4FB9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A75-DA80-4755-915D-8306816C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4CD-0C15-4E31-8E37-647E9D28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7DC-3A61-4446-8E6C-6FD34E84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798-DA9B-40E8-9080-180620E9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A118-C62A-4F85-AC83-B0F385E5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F58A-8010-46CA-BD3F-92A61C21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9BE9-E2BD-4785-A18B-5DA15B41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CD27-75B0-4A56-A198-5C5CF71F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92D4-1101-4658-A007-927BFF3F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7A52-2AFB-408B-80D5-633BDC5E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BC21-8E40-468A-8320-1C2180B2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A77-0E95-4477-9180-0C5BE946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7373-8321-4B36-AC87-884D4278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FAEC-7398-42A4-A286-BB32A01A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537D-FF6F-4F33-91E0-6213EA29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C058-A7C6-4D66-BEF7-14D534C0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6A8C-774D-4CE1-8498-13EC0D06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AF7F-20F7-4283-ABAA-ABADEB42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D804-D989-4F85-9E51-E685036B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34DE-9685-4FF0-AC4C-466B9097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5185-CD4C-40C7-871E-9D296766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4D458-EADA-4CE9-9D9E-E74BB1E1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0A5-C653-4140-A3AB-0DFC8E43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1DA6-21D4-427F-A4A7-4984C68D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AC51-E226-448B-A532-C170A050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78A0-4CF1-4ABA-818E-341A6870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19D92-0A29-44EA-9782-E514D16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A283-A0E9-4259-9DFD-36772CC0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AB62-52CD-4A6A-82BB-DD4030BA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F8C2-FF39-4A39-8A90-E474F1DA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3DD79-A65B-427B-8220-E0805D60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CA586-DE7B-4464-9D1F-50CA0831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1B223-B1CF-4908-B830-0E39CC90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4C4-675E-415D-8531-B45B77BE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2F060-156D-4312-9266-593DFD3B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9C4C3-970E-42CF-8B7C-945E7678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94CE-6056-4996-8332-E4CB8BA8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38FD5-D5F5-409E-970D-D632485B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03C9F-2DF2-4A65-9CAB-CD7D3272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25D3B-7A38-4C24-8155-F5DBA0B5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05AF8-99EE-4D08-BF6D-0BED6E95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684E-3256-40BF-B0A7-A8D30EFD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CDA93-FF4A-40A1-B90B-271B2993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27FDE-64A6-47A1-A277-68F9C5E3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B3B-DD1E-4F13-AC64-C7160220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CA29D-19BB-41C6-8568-913F04BA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38D28-6DB3-4B3B-AD26-6B7C96DD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929F5-97E6-4DFB-BC35-87726F34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8BF3-DE27-4EC6-9896-56FCA114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9CB83-A56F-4B7D-A5D0-108DD94A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2E49F-FDD6-495D-94AC-A695A0A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7D6E0-D31B-4E65-899C-9B671D7E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592C5-1A74-4724-85EC-F7D592A0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2C04-8F5B-4E6E-89B5-9766EDDB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72AA8-E3D2-4F46-9F23-73785693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2FE-A516-4AE8-B112-70E18E98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A3F6A-1819-46FF-BA32-BDC8B4D7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B292B-4DC1-41E7-9D28-B2D49E27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65E0E-AFB0-40C0-B703-43AC2816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686F2-8F81-4BA1-939F-C678AA93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21FFF-FD48-46C7-B223-00BD0D12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46887-BE24-4BBA-B224-0C9931C7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A2D1C-5AD0-4FF2-8576-6126B783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7B848-A963-406A-A6DC-194B82C8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0FF5F-2B30-48C2-92EB-7D18890E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32652-E526-469C-8B59-101C4326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66A-4F15-4008-9430-82F8BD4B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D46F0-86D4-4817-821F-DC30A78F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058D7-4716-4631-B601-56869C5C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5E307-D5D6-45DD-9B7A-FB3BFD49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C420B-2D48-4A4A-AB7A-51A5D343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EB39B-56ED-4488-982A-A33433E4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314A9-FC72-4F1F-B908-367DBE20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7F9FB-4D2D-4662-9136-C7522364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636BF-CA93-4F80-8FCD-8686DF8A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6652F-3961-489F-9C8D-2B182507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8E969-9F10-4780-8B84-AF1D1521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3E1-22FF-4E16-A8EB-0D4D3E50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C0F35-5D85-4448-B3D4-0FBA59FD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61F2C-5404-4885-B27E-E72F4EE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42E83-F4F4-411B-B6D4-1B1BC708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1AE36-10B0-4F49-AB03-7A40DA75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61CB7-E524-4292-AF6B-E631038C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FCBC7-603D-42CE-8C88-E60DD811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FEB76-D9EF-4468-8468-EC897360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A8B23-4D02-4AEF-9C51-8995B8E5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F34CE-B0C1-4D87-948C-86284D26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950F3-8876-4A92-A91E-25EC1BA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F6F-5713-430D-B192-B03A611B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68072-3BCB-4128-9059-524D6F6E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A00FF-0953-4208-BC99-6657866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13EA-A434-4E09-A3C8-5D8954E3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0B1ED-859A-4532-9FD9-E7DE276B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6A733-6298-4ADF-A284-A443B410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96A0C-62A6-4CCA-9A63-3230BFBA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50D7F-8C8D-4877-BFF1-C4DA3795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33FE-1EB9-47F7-9264-669F7B9D479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6F94-0CEC-499E-8447-717245100F6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613E-D8F4-473F-8294-18E27D07D8B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C465-3DAC-4DBF-9C9E-A0E1A3476B4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0E32-693E-4BED-B24E-04CD0ADD74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AC49-BD9C-42A0-9C8E-D1FA2A5151C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3B3-6C28-4327-A8B4-58F77FC897E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6ECF-D1FF-43C5-A635-CECC0E305C6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Timor_ppt_bkg_printing"/>
          <p:cNvPicPr/>
          <p:nvPr/>
        </p:nvPicPr>
        <p:blipFill>
          <a:blip r:embed="rId1"/>
          <a:stretch/>
        </p:blipFill>
        <p:spPr>
          <a:xfrm>
            <a:off x="838080" y="2209680"/>
            <a:ext cx="7543800" cy="3732480"/>
          </a:xfrm>
          <a:prstGeom prst="rect">
            <a:avLst/>
          </a:prstGeom>
          <a:ln w="0">
            <a:noFill/>
          </a:ln>
        </p:spPr>
      </p:pic>
      <p:pic>
        <p:nvPicPr>
          <p:cNvPr id="378" name="Subtitle 2" descr=""/>
          <p:cNvPicPr/>
          <p:nvPr/>
        </p:nvPicPr>
        <p:blipFill>
          <a:blip r:embed="rId2"/>
          <a:stretch/>
        </p:blipFill>
        <p:spPr>
          <a:xfrm>
            <a:off x="-55440" y="0"/>
            <a:ext cx="4494240" cy="554040"/>
          </a:xfrm>
          <a:prstGeom prst="rect">
            <a:avLst/>
          </a:prstGeom>
          <a:ln w="0">
            <a:noFill/>
          </a:ln>
        </p:spPr>
      </p:pic>
      <p:sp>
        <p:nvSpPr>
          <p:cNvPr id="379" name="Title 1"/>
          <p:cNvSpPr/>
          <p:nvPr/>
        </p:nvSpPr>
        <p:spPr>
          <a:xfrm>
            <a:off x="609480" y="1447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OUNTRY REPO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936160" y="266688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Jakar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Sep,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20</a:t>
            </a: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6"/>
          <p:cNvGrpSpPr/>
          <p:nvPr/>
        </p:nvGrpSpPr>
        <p:grpSpPr>
          <a:xfrm>
            <a:off x="731880" y="4638600"/>
            <a:ext cx="8040600" cy="1841400"/>
            <a:chOff x="731880" y="4638600"/>
            <a:chExt cx="8040600" cy="1841400"/>
          </a:xfrm>
        </p:grpSpPr>
        <p:pic>
          <p:nvPicPr>
            <p:cNvPr id="382" name="Rectangle 6" descr=""/>
            <p:cNvPicPr/>
            <p:nvPr/>
          </p:nvPicPr>
          <p:blipFill>
            <a:blip r:embed="rId3"/>
            <a:stretch/>
          </p:blipFill>
          <p:spPr>
            <a:xfrm>
              <a:off x="731880" y="4638600"/>
              <a:ext cx="80406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838080" y="4800600"/>
              <a:ext cx="7772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National Directorate of Meteorology and Geophysics of  Timor-Leste (DNM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560" y="148104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Collected Data from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52-1974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ortuguese time)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established DN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gan collecting data in 2003 until now and the data DNMG takes is rainfall (monthly data), but data for now is only data fro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ucau 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ct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ili. The data for Oe-cusse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trict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 start taking in 2015 because of new tools installed in 2015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152280" y="152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Lucida Sans Unicode"/>
              </a:rPr>
              <a:t>Examples of weather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304920" y="733320"/>
            <a:ext cx="83818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Lucida Sans Unicode"/>
              </a:rPr>
              <a:t>BOM: Forecast - Timor Leste (NT) [SEC=UNCLASSIFIED] (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D1017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 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Northern Territory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imor Leste Weather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ssued at 1645 on Thursday the 10th of September 2015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Forecast for tonight and Friday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 apart from som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cloud about the ranges and southern coast. Light to moderate east to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outheasterly winds, with moderate seabreezes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ili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. Light southeaster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inds before a moderate northeasterly sea breeze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n: 21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ax: 3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Outlook for the next two days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he chance of isolated afternoon showers on and south of the ranges. Most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unny elsewhere. Winds tending moderate east to southeasterly, with moderat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d-morning sea breez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DW2084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estern Australia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erth Regional Forecasting Centr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Need add more staff with high capacit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Improve capacity with the training in area Forecasting, observation, instrument calibrating, models, et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Headquarter with the modern system for the Meteorology, Climatology and Geophys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AWS in other Municipal (at list 12 mor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Content Placeholder 2"/>
          <p:cNvSpPr/>
          <p:nvPr/>
        </p:nvSpPr>
        <p:spPr>
          <a:xfrm>
            <a:off x="22860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b0f0"/>
                </a:solidFill>
                <a:latin typeface="Lucida Sans Unicode"/>
              </a:rPr>
              <a:t>Support and Cooperation Partners country in Application Data Information with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oM       Provide forecast for Aviation and Tropical Cyclone adversar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RIMES       Provide three days forecast and Earthquake and Tsunami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JMA        Provide Satellite Imagery (SATAI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MKG        on going process signing MOU to provide technical assistant for training and calibration instrum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vernment instances: Agriculture, Water Resources, Mineral Resources and NG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ight Arrow 3"/>
          <p:cNvSpPr/>
          <p:nvPr/>
        </p:nvSpPr>
        <p:spPr>
          <a:xfrm flipV="1">
            <a:off x="1368360" y="153972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ight Arrow 5"/>
          <p:cNvSpPr/>
          <p:nvPr/>
        </p:nvSpPr>
        <p:spPr>
          <a:xfrm flipV="1">
            <a:off x="1554120" y="2209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ight Arrow 6"/>
          <p:cNvSpPr/>
          <p:nvPr/>
        </p:nvSpPr>
        <p:spPr>
          <a:xfrm flipV="1">
            <a:off x="1387440" y="28954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ight Arrow 7"/>
          <p:cNvSpPr/>
          <p:nvPr/>
        </p:nvSpPr>
        <p:spPr>
          <a:xfrm flipV="1">
            <a:off x="1593720" y="3352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2" descr=""/>
          <p:cNvPicPr/>
          <p:nvPr/>
        </p:nvPicPr>
        <p:blipFill>
          <a:blip r:embed="rId1"/>
          <a:stretch/>
        </p:blipFill>
        <p:spPr>
          <a:xfrm>
            <a:off x="-237960" y="268200"/>
            <a:ext cx="89312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3" descr=""/>
          <p:cNvPicPr/>
          <p:nvPr/>
        </p:nvPicPr>
        <p:blipFill>
          <a:blip r:embed="rId1"/>
          <a:stretch/>
        </p:blipFill>
        <p:spPr>
          <a:xfrm>
            <a:off x="603360" y="195120"/>
            <a:ext cx="8138880" cy="111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D:\meteo_contry_report\20090504181022!Diplomatic_missions_in_Timor-Leste.png"/>
          <p:cNvPicPr/>
          <p:nvPr/>
        </p:nvPicPr>
        <p:blipFill>
          <a:blip r:embed="rId2"/>
          <a:stretch/>
        </p:blipFill>
        <p:spPr>
          <a:xfrm>
            <a:off x="378000" y="1596960"/>
            <a:ext cx="8467560" cy="5267520"/>
          </a:xfrm>
          <a:prstGeom prst="rect">
            <a:avLst/>
          </a:prstGeom>
          <a:ln w="0">
            <a:noFill/>
          </a:ln>
        </p:spPr>
      </p:pic>
      <p:sp>
        <p:nvSpPr>
          <p:cNvPr id="386" name="Down Arrow 5"/>
          <p:cNvSpPr/>
          <p:nvPr/>
        </p:nvSpPr>
        <p:spPr>
          <a:xfrm>
            <a:off x="7238880" y="40384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areamap"/>
          <p:cNvPicPr/>
          <p:nvPr/>
        </p:nvPicPr>
        <p:blipFill>
          <a:blip r:embed="rId3"/>
          <a:stretch/>
        </p:blipFill>
        <p:spPr>
          <a:xfrm>
            <a:off x="987480" y="3803760"/>
            <a:ext cx="3895560" cy="26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Democratic Republic of Timor-Leste 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Down Arrow 5"/>
          <p:cNvSpPr/>
          <p:nvPr/>
        </p:nvSpPr>
        <p:spPr>
          <a:xfrm>
            <a:off x="7315200" y="31240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D:\meteo_contry_report\timor.gif"/>
          <p:cNvPicPr/>
          <p:nvPr/>
        </p:nvPicPr>
        <p:blipFill>
          <a:blip r:embed="rId1"/>
          <a:stretch/>
        </p:blipFill>
        <p:spPr>
          <a:xfrm>
            <a:off x="103320" y="212760"/>
            <a:ext cx="8613720" cy="666900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6" descr=""/>
          <p:cNvPicPr/>
          <p:nvPr/>
        </p:nvPicPr>
        <p:blipFill>
          <a:blip r:embed="rId2"/>
          <a:stretch/>
        </p:blipFill>
        <p:spPr>
          <a:xfrm>
            <a:off x="228600" y="504720"/>
            <a:ext cx="2514600" cy="2772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392" name="Rectangle 3"/>
          <p:cNvSpPr/>
          <p:nvPr/>
        </p:nvSpPr>
        <p:spPr>
          <a:xfrm>
            <a:off x="-1409760" y="6318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9" descr=""/>
          <p:cNvPicPr/>
          <p:nvPr/>
        </p:nvPicPr>
        <p:blipFill>
          <a:blip r:embed="rId3"/>
          <a:stretch/>
        </p:blipFill>
        <p:spPr>
          <a:xfrm>
            <a:off x="5943600" y="2292480"/>
            <a:ext cx="32194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established early 2003  under the ministry of Infrastruct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ce the referendum held on September 1999 all Meteorology Services were destroyed in Dili Capital and other districts in Timor-Leste. During the UNTAET period in Timor-Leste meteorology service were provided by Bureau of Meteorology Australia (BoM) in Darwin (just for aviation up to dat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become member of  WMO on 4 December 2009 (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89 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Current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ly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DNMG office in DILI, under the Ministry of Public Work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Transport and Communica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With 2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 staff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4" descr="DSC02264"/>
          <p:cNvPicPr/>
          <p:nvPr/>
        </p:nvPicPr>
        <p:blipFill>
          <a:blip r:embed="rId1"/>
          <a:stretch/>
        </p:blipFill>
        <p:spPr>
          <a:xfrm>
            <a:off x="4572000" y="419112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6"/>
          <p:cNvSpPr/>
          <p:nvPr/>
        </p:nvSpPr>
        <p:spPr>
          <a:xfrm>
            <a:off x="228600" y="0"/>
            <a:ext cx="3886200" cy="304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cilities Infrastructure of DNM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DSC02276"/>
          <p:cNvPicPr/>
          <p:nvPr/>
        </p:nvPicPr>
        <p:blipFill>
          <a:blip r:embed="rId2"/>
          <a:stretch/>
        </p:blipFill>
        <p:spPr>
          <a:xfrm>
            <a:off x="5791320" y="15238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100_5752"/>
          <p:cNvPicPr/>
          <p:nvPr/>
        </p:nvPicPr>
        <p:blipFill>
          <a:blip r:embed="rId3"/>
          <a:stretch/>
        </p:blipFill>
        <p:spPr>
          <a:xfrm>
            <a:off x="0" y="4172040"/>
            <a:ext cx="4267080" cy="2685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4"/>
          <a:stretch/>
        </p:blipFill>
        <p:spPr>
          <a:xfrm>
            <a:off x="0" y="1600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3" descr="DSC02288"/>
          <p:cNvPicPr/>
          <p:nvPr/>
        </p:nvPicPr>
        <p:blipFill>
          <a:blip r:embed="rId5"/>
          <a:stretch/>
        </p:blipFill>
        <p:spPr>
          <a:xfrm>
            <a:off x="4884840" y="4314960"/>
            <a:ext cx="3517920" cy="26384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"/>
          <p:cNvSpPr/>
          <p:nvPr/>
        </p:nvSpPr>
        <p:spPr>
          <a:xfrm>
            <a:off x="60948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 Automatic Weather Stat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2 synoptic 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ual Weath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CliDe System fo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304920" y="0"/>
            <a:ext cx="464796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Clr>
                <a:srgbClr val="ff8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NMG </a:t>
            </a:r>
            <a:r>
              <a:rPr b="1" lang="id-ID" sz="2800" spc="-1" strike="noStrike">
                <a:solidFill>
                  <a:srgbClr val="000000"/>
                </a:solidFill>
                <a:latin typeface="Lucida Sans Unicode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bservation and monitor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609480" y="1066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Collected data from AWS and Manu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C:\Users\Main User\Pictures\Foto Act Servico DNMG 2008\Actividade Obs1.JPG"/>
          <p:cNvPicPr/>
          <p:nvPr/>
        </p:nvPicPr>
        <p:blipFill>
          <a:blip r:embed="rId1"/>
          <a:stretch/>
        </p:blipFill>
        <p:spPr>
          <a:xfrm>
            <a:off x="6400800" y="6094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Main User\Pictures\Foto Act Servico DNMG 2008\AWS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71680" cy="1779480"/>
          </a:xfrm>
          <a:prstGeom prst="rect">
            <a:avLst/>
          </a:prstGeom>
          <a:ln w="0">
            <a:noFill/>
          </a:ln>
        </p:spPr>
      </p:pic>
      <p:sp>
        <p:nvSpPr>
          <p:cNvPr id="407" name="Right Arrow 3"/>
          <p:cNvSpPr/>
          <p:nvPr/>
        </p:nvSpPr>
        <p:spPr>
          <a:xfrm>
            <a:off x="2286000" y="16765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3124080" y="167652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Entry to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Main User\Pictures\Foto Act Servico DNMG 2008\Act. weather forecaster2.JPG"/>
          <p:cNvPicPr/>
          <p:nvPr/>
        </p:nvPicPr>
        <p:blipFill>
          <a:blip r:embed="rId3"/>
          <a:stretch/>
        </p:blipFill>
        <p:spPr>
          <a:xfrm>
            <a:off x="609480" y="2247840"/>
            <a:ext cx="5131080" cy="38480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6705720" y="510552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Analysis of RIMES NWP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Elbow Connector 9"/>
          <p:cNvCxnSpPr/>
          <p:nvPr/>
        </p:nvCxnSpPr>
        <p:spPr>
          <a:xfrm>
            <a:off x="5737320" y="4952520"/>
            <a:ext cx="892800" cy="477000"/>
          </a:xfrm>
          <a:prstGeom prst="bentConnector3">
            <a:avLst>
              <a:gd name="adj1" fmla="val 49979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For 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7th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 automatic and manual weather station and 14 water level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five water level monitoring stations in Dili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nd currently Hydrology can only collect data and not yet able to provide information to the public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3" descr=""/>
          <p:cNvPicPr/>
          <p:nvPr/>
        </p:nvPicPr>
        <p:blipFill>
          <a:blip r:embed="rId1"/>
          <a:stretch/>
        </p:blipFill>
        <p:spPr>
          <a:xfrm>
            <a:off x="244440" y="165240"/>
            <a:ext cx="8491680" cy="1298520"/>
          </a:xfrm>
          <a:prstGeom prst="rect">
            <a:avLst/>
          </a:prstGeom>
          <a:ln w="0">
            <a:noFill/>
          </a:ln>
        </p:spPr>
      </p:pic>
      <p:pic>
        <p:nvPicPr>
          <p:cNvPr id="418" name="Content Placeholder 4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381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5:40:20Z</dcterms:created>
  <dc:creator>admin</dc:creator>
  <dc:description/>
  <dc:language>en-US</dc:language>
  <cp:lastModifiedBy>USER</cp:lastModifiedBy>
  <dcterms:modified xsi:type="dcterms:W3CDTF">2018-09-18T06:10:36Z</dcterms:modified>
  <cp:revision>69</cp:revision>
  <dc:subject/>
  <dc:title>COUNTRY REPORT</dc:title>
</cp:coreProperties>
</file>